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F22-6353-44FC-9506-202F8699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C06-A8E9-47E2-A68E-8559CFFC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C03-4192-4DF2-9649-F875DF28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C36-FE07-487F-AC96-77256D85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FA0-AE8C-4035-9E73-90B4B76D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8B3-5482-459E-A08E-DEAAC910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99C-1E0A-46B9-A175-9E5DA2A8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E61-77B2-4FDF-91AE-680DD9C0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E4C-8ED3-44AB-A016-4A2EA01E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74D-5326-4528-8709-547411B1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62B-8C75-4846-8792-3FF5F6D8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156-80A4-4C09-9EE3-E5B53F79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A333-B08E-479B-8CDA-DF6F1EA52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3049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Let’s Meet Marc Br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5182"/>
          <a:stretch/>
        </p:blipFill>
        <p:spPr>
          <a:xfrm>
            <a:off x="2514600" y="1219320"/>
            <a:ext cx="4363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393372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D.W.  and Francine do some of the same things Marc’s three sisters did while they were growing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2038320" cy="3733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19320" y="152280"/>
            <a:ext cx="319860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Marc also uses things that his three children, Tolon, Tucker, and Eliza said and did when they were little to help him come up with story ideas, t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9680" y="419112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638680" y="3657600"/>
            <a:ext cx="1710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52280"/>
            <a:ext cx="8915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A fun thing to do while reading Marc Brown’s picture books is to look for his children’s names hidden in the pict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95280" y="4038480"/>
            <a:ext cx="175284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lo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62520" y="4800600"/>
            <a:ext cx="2057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iz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72200" y="2895480"/>
            <a:ext cx="16765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ucker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414648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The newest Arthur books are longer books for older children to re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24606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152280"/>
            <a:ext cx="8382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Arthur seems to be everywhere !  He’s even in the big Macy’s Thanksgiving Day Para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4442" r="0" b="10974"/>
          <a:stretch/>
        </p:blipFill>
        <p:spPr>
          <a:xfrm>
            <a:off x="4249800" y="2514600"/>
            <a:ext cx="375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495288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There is even a TV show about Arthur and his frien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84120" y="457200"/>
            <a:ext cx="65646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74644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Marc Brown lives in </a:t>
            </a:r>
            <a:r>
              <a:rPr b="1" lang="en-US" sz="4400" spc="-1" strike="noStrike">
                <a:solidFill>
                  <a:srgbClr val="990033"/>
                </a:solidFill>
                <a:latin typeface="Cooper Black"/>
              </a:rPr>
              <a:t>Hingham, Massachusetts</a:t>
            </a: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  and </a:t>
            </a:r>
            <a:r>
              <a:rPr b="1" lang="en-US" sz="4400" spc="-1" strike="noStrike">
                <a:solidFill>
                  <a:srgbClr val="990033"/>
                </a:solidFill>
                <a:latin typeface="Cooper Black"/>
              </a:rPr>
              <a:t>Martha’s Vineyard</a:t>
            </a: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 with his wife and daughter, Eliza.  Tolon and Tucker are all grown up and on their 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4343400" cy="271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6652" r="0" b="13572"/>
          <a:stretch/>
        </p:blipFill>
        <p:spPr>
          <a:xfrm>
            <a:off x="5105520" y="76320"/>
            <a:ext cx="3467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66680" y="533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81080" y="1512720"/>
            <a:ext cx="54864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0"/>
            <a:ext cx="9067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Marc Brown is the author and illustrator of the famous Arthur boo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9528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647720"/>
            <a:ext cx="426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Marc was born in 1946 in Erie, Pennsylvan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60840" y="380880"/>
            <a:ext cx="43545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379080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oper Black"/>
              </a:rPr>
              <a:t>When Marc was a boy growing up in Pennsylvania, his Grandma Thora told him stories.  He says she was the best storyteller ever!  Marc gave Arthur’s Grandma the same nam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15646"/>
          <a:stretch/>
        </p:blipFill>
        <p:spPr>
          <a:xfrm>
            <a:off x="3124080" y="228600"/>
            <a:ext cx="2776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8762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Marc began telling stories when his first child, Tolon, was born.  He loved to make up bedtime stories for him every night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05520" y="2971800"/>
            <a:ext cx="27176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1280" y="380880"/>
            <a:ext cx="5334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One night the story was about an aardvark who did not like his nose, that aardvark became Arthur, and the story, </a:t>
            </a:r>
            <a:r>
              <a:rPr b="1" lang="en-US" sz="4400" spc="-1" strike="noStrike" u="sng">
                <a:solidFill>
                  <a:srgbClr val="660066"/>
                </a:solidFill>
                <a:uFillTx/>
                <a:latin typeface="Cooper Black"/>
              </a:rPr>
              <a:t>Arthur’s Nose</a:t>
            </a: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7920" y="1371600"/>
            <a:ext cx="2998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52280"/>
            <a:ext cx="8382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Did you notice that Arthur looked very different in that first book?  Marc changed Arthur’s look a few times over the yea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2356" t="29790" r="25256" b="14895"/>
          <a:stretch/>
        </p:blipFill>
        <p:spPr>
          <a:xfrm>
            <a:off x="457200" y="3581280"/>
            <a:ext cx="194328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23194" t="38224" r="28467" b="0"/>
          <a:stretch/>
        </p:blipFill>
        <p:spPr>
          <a:xfrm>
            <a:off x="3462480" y="3581280"/>
            <a:ext cx="1795320" cy="312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0" r="65998" b="0"/>
          <a:stretch/>
        </p:blipFill>
        <p:spPr>
          <a:xfrm>
            <a:off x="6296040" y="2895480"/>
            <a:ext cx="1790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933720"/>
            <a:ext cx="830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Since the first book, Marc has written and illustrated over 30 books about Arthur, his family and frien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76320"/>
            <a:ext cx="457200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334008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oper Black"/>
              </a:rPr>
              <a:t>Marc makes the characters in his books like people from his real life.  Buster is like Marc’s best friend from elementary scho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6079" t="2235" r="49316" b="3911"/>
          <a:stretch/>
        </p:blipFill>
        <p:spPr>
          <a:xfrm>
            <a:off x="3048120" y="152280"/>
            <a:ext cx="2666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3:37:29Z</dcterms:created>
  <dc:creator>Faye Humbard</dc:creator>
  <dc:description/>
  <dc:language>en-US</dc:language>
  <cp:lastModifiedBy>Connie Campbell</cp:lastModifiedBy>
  <dcterms:modified xsi:type="dcterms:W3CDTF">2005-05-09T18:20:07Z</dcterms:modified>
  <cp:revision>28</cp:revision>
  <dc:subject/>
  <dc:title>PowerPoint Presentation</dc:title>
</cp:coreProperties>
</file>